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39BE-2E83-4D1F-8856-312C46FC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3264-C88F-46D5-AAB9-B8558868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E076-FDE5-426E-9EBE-406F8793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8A45-5C50-4592-B50E-7A433009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989A-D1FF-4CE7-9D6E-B7AF013A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BA05-1EC0-4A2B-AC1F-0F1AF3BA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CB62-C028-4D4C-9912-EA10C046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EB52-65D1-440A-90ED-6FE54038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3EE7-7980-4E56-8055-9BEFAD94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1E96-C729-460A-816C-FEF0A51E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7A4A-2E9B-4483-8C89-915FE352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FB19-5E04-4FEC-A7D6-DD2FE70A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3B57-1DBC-478F-A99C-A810ED99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414B-81B2-4AA3-90FF-DA003DFB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EEE2-BDB5-4A52-8496-40853CEA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A195-D952-4B6B-9901-CC0C3B13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6228-5F99-4250-863F-4BBF93ED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3EF4B-F0F7-455A-8DAF-2D3D1B32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07BE7-0ABC-4682-A512-106D1D2A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D92C7-DC86-4332-ADAF-4E53A59A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B0C40-7751-484B-9E8E-BD14C8F4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8F1A6-6DFA-41C9-912F-226279BC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D99E-1FDE-4367-8259-16D1789B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23F2E-405D-48BF-BDAA-DA6B9121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09BED-BD8B-417F-84D0-9546B4C3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B8066-A57B-4B8F-968B-1646833E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5E540-D363-4404-83CB-2CAD1D10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8E161-1078-4E79-83D8-123A538E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5BCBB-30CE-4F80-9E1C-5F4F8E05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7BFD6-71D8-4DF7-9733-79078197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32337-41BE-4078-A447-A8B9167A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DEA57-0DF3-4494-8222-1B1BB8EE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E1E00-DEDD-48E2-8804-0BA6C3A0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0508-F423-4128-B9EC-7B13C653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F1FBA-F5BB-4FA0-8A14-D23E6AA0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10006-6BA7-4B7F-9384-0B6D556B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69BFC-E8AC-4483-8A3E-54183988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675D8-016F-48A2-AF49-8EAD8213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1033E-468D-4132-B42D-51D0FEA7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DB911-AE1C-4608-BF5F-8A75B226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C5DCD-423F-4700-B8CE-A71B8307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FC542-4459-4D30-BE2C-65C36CF9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C82E6-4FF1-4098-94DF-EC99995D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9C632-58C1-4496-9FCD-9BE4BE21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3CE8-C554-4BD4-A695-866A33F0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14B34-5576-4F77-8AD7-8A8A3476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CDB0C-216F-4D9A-95A1-00F6A760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940B7-5C24-4EB9-927F-173026F6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77561-06B3-4AAA-AB63-ADA94EB6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F1392-E14E-4A84-BCAC-D47EBC26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16073-59A3-41C8-B59B-6FCCE5D9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61A80-1229-4B0A-A359-3871FCD3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401BF-1139-4FF7-B885-E83D9E14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A7498-5FF3-4ED0-9A4F-B33E490A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F12F8-C00A-4EE4-9D14-510785D1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DD85-15F0-4EAD-B70C-25A0C6EA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D29BA-E9EA-461A-9590-059FC738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8AB8-D464-4522-A146-F03775CB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15DF-9ED6-4BB0-9551-2906E2F0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CE9E-1F11-46BA-B518-5DB8FE36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3/30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8517-5A9E-4046-8230-CDC74F4493C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3/30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3A40-83A2-468F-9A65-2521BE7582E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3/30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0A71-3B86-4DF7-9DFA-95388A05510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3/30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6B4C-DE19-40F3-AEFC-B8275CC5FF2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3/30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107E-A062-41FE-BC34-DC36798DB50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4360" y="1481040"/>
            <a:ext cx="6172200" cy="1278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alibri"/>
              </a:rPr>
              <a:t>ОЦІНЮВАННЯ ОРІЄНТОВАНЕ НА ДИТИНУ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Прямоугольник 3"/>
          <p:cNvSpPr/>
          <p:nvPr/>
        </p:nvSpPr>
        <p:spPr>
          <a:xfrm>
            <a:off x="4272840" y="530064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6-8 червня, 2016 року, м.Киї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31" name="Нижний колонтитул 5"/>
          <p:cNvSpPr/>
          <p:nvPr/>
        </p:nvSpPr>
        <p:spPr>
          <a:xfrm>
            <a:off x="1441440" y="3208320"/>
            <a:ext cx="73026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НІН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ля педагогів пілотних шкі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 питань впровадження проек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жавного стандарту початкової загальної освіти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пень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03120" y="27432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53232"/>
                </a:solidFill>
                <a:latin typeface="Calibri"/>
              </a:rPr>
              <a:t>Що таке портфоліо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55280" y="1571760"/>
            <a:ext cx="793116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Портфоліо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– це систематичний збір робіт дитини, що проводиться з певною метою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Портфоліо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може містити роботи, що відбираються педагогом, дитиною та батьками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Портфоліо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має відображати щоденні види діяльності дитини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1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85840" y="1857240"/>
            <a:ext cx="857232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ортфоліо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(у широкому розумінні) — це спосіб фіксування, накопичення та оцінки індивідуальних досягнень учня  протягом певного періоду навчання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5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3333"/>
                </a:solidFill>
                <a:latin typeface="Calibri"/>
              </a:rPr>
              <a:t>Цілі </a:t>
            </a:r>
            <a:br>
              <a:rPr sz="3600"/>
            </a:br>
            <a:r>
              <a:rPr b="1" lang="uk-UA" sz="3600" spc="-1" strike="noStrike">
                <a:solidFill>
                  <a:srgbClr val="333333"/>
                </a:solidFill>
                <a:latin typeface="Calibri"/>
              </a:rPr>
              <a:t>використання портфоліо: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71320" y="1856880"/>
            <a:ext cx="81435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Вивчення прогресу розвитку дитини за певний період часу, у тому числі прогрес розвитку відповідних навичок (навички користування ножицями, навички з письма тощо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Забезпечення можливості для самооцінювання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Допомога педагогу у визначенні індивідуальних цілей для дитини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9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96464"/>
                </a:solidFill>
                <a:latin typeface="Calibri"/>
              </a:rPr>
              <a:t>Педагогічна ідея навчального портфоліо як форми оцінювання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зміщення акценту з того, що учень не знає і не вміє на те, що він знає і вміє з даної теми, розділу, предмета;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інтеграцію кількісних і якісних оцінок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домінування самооцінки по відношенню до зовнішньої оцінк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3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087640" y="499680"/>
            <a:ext cx="6642000" cy="849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96464"/>
                </a:solidFill>
                <a:latin typeface="Calibri"/>
              </a:rPr>
              <a:t>Види портфоліо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1680" y="1500120"/>
            <a:ext cx="8286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7030a0"/>
                </a:solidFill>
                <a:latin typeface="Cambria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РОБОЧЕ ПОРТФОЛІО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педагог спільно з дитиною здійснює оцінку її робіт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ДЕМОНСТРАЦІЙНЕ ПОРТФОЛІО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– </a:t>
            </a: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портфоліо учня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містить лише найкращі роботи дитини. Наповнюється виключно самою дитиною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</a:t>
            </a: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ОРТФОЛІО ПЕДАГОГА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часто ведеться самим педагогом спільно з демонстраційним портфоліо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7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63240" y="-360"/>
            <a:ext cx="66056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33"/>
                </a:solidFill>
                <a:latin typeface="Calibri"/>
              </a:rPr>
              <a:t>Робоче портфоліо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28400" y="1267920"/>
            <a:ext cx="87152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Дитина відбирає зразки робіт, які демонструють її розвиток, опанування відповідними навичками, батьки додають свої коментарі, педагог додає власні зразки робіт дитин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(+) такий вид портфоліо найбільш точно відображає прогрес розвитку дитини, показуючи її щоденний прогрес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-) 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містить дуже багато різних зразків робіт. Може створювати ситуацію, коли лише педагог бере відповідальність за його наповнення – щоб уникнути цього, потрібно утримувати портфоліо в доступному для дитини місці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1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91840" y="274320"/>
            <a:ext cx="6294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96464"/>
                </a:solidFill>
                <a:latin typeface="Calibri"/>
              </a:rPr>
              <a:t>Мета демонстарційного -учнівського портфоліо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42920" y="160020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формування в учня відповідальності і самостійності навчання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розвиток вміння давати якісну оцінку результатів власного навчання та діяльності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розвиток вміння аналізувати власні інтереси, схильності, потреби і співвідносити їх з наявними можливостями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формування пізнавальних інтересів і готовність до самостійного пізнання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• 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</a:rPr>
              <a:t>самостійна добірка матеріалів портфоліо породжує ситуацію успіху,призводить до підвищення самооцінки і впевненості у власних можливостях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5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96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301840" y="274320"/>
            <a:ext cx="63849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96464"/>
                </a:solidFill>
                <a:latin typeface="Calibri"/>
              </a:rPr>
              <a:t>ДЕМОНСТРАЦІЙНЕ ПОРТФОЛІО 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914040" y="1700280"/>
            <a:ext cx="80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+) 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є мотивацією для дитини виконувати роботи, що демонструють її найкращі здібності.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(-) 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у більшості випадків не відображає щоденну діяльність.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Т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аке портфоліо не показує  слабкі місця та сфери, де потрібна додаткова допомога.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9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300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Calibri"/>
              </a:rPr>
              <a:t>П</a:t>
            </a:r>
            <a:r>
              <a:rPr b="1" lang="uk-UA" sz="4000" spc="-1" strike="noStrike">
                <a:solidFill>
                  <a:srgbClr val="696464"/>
                </a:solidFill>
                <a:latin typeface="Calibri"/>
              </a:rPr>
              <a:t>ОРТФОЛІО ПЕДАГОГ</a:t>
            </a:r>
            <a:r>
              <a:rPr b="1" lang="uk-UA" sz="4000" spc="-1" strike="noStrike">
                <a:solidFill>
                  <a:srgbClr val="595959"/>
                </a:solidFill>
                <a:latin typeface="Calibri"/>
              </a:rPr>
              <a:t>А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Цей вид портфоліо містить форми оцінювання розвитку дитини, інформацію від інших фахівців, результати перевірочних завдань, які вибирає не дитина, а сам педагог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3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93480" y="549000"/>
            <a:ext cx="6575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96464"/>
                </a:solidFill>
                <a:latin typeface="Calibri"/>
              </a:rPr>
              <a:t>Портфоліо  може містити багато різних видів робіт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116000" y="2286000"/>
            <a:ext cx="822960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алюнки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питувальники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Коментарі педагога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Фотографії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постереження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Коментарі батьків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Зразки спільних робіт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Приклади вирішення проблем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07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28400" y="1857240"/>
            <a:ext cx="440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Cambria"/>
              </a:rPr>
              <a:t>Більшість вчителів витрачають час на питання, покликані встановити, чого учень не знає, а справжнє мистецтво постановки питання полягає в тому, щоб з’ясувати, що учень знає або здатний пізнати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889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889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Cambria"/>
              </a:rPr>
              <a:t>                      </a:t>
            </a:r>
            <a:r>
              <a:rPr b="1" i="1" lang="ru-RU" sz="2000" spc="-1" strike="noStrike">
                <a:solidFill>
                  <a:srgbClr val="003399"/>
                </a:solidFill>
                <a:latin typeface="Cambria"/>
              </a:rPr>
              <a:t>Альберт Енштейн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3" name="Picture 2" descr="C:\Users\Леонид\Desktop\Albert_Einstein.jpg"/>
          <p:cNvPicPr/>
          <p:nvPr/>
        </p:nvPicPr>
        <p:blipFill>
          <a:blip r:embed="rId1"/>
          <a:stretch/>
        </p:blipFill>
        <p:spPr>
          <a:xfrm>
            <a:off x="4929120" y="1928880"/>
            <a:ext cx="4029120" cy="3929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cid:image001.png@01D2F0F8.F09A5ED0"/>
          <p:cNvPicPr/>
          <p:nvPr/>
        </p:nvPicPr>
        <p:blipFill>
          <a:blip r:embed="rId2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346480" y="274320"/>
            <a:ext cx="63403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96464"/>
                </a:solidFill>
                <a:latin typeface="Calibri"/>
              </a:rPr>
              <a:t>Структура портфоліо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итульна сторінк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озділ «Досягнення учня у навчанні»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Розділ «Соціальна компетентність учня»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Розділ «Суспільна робота учня»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Розділ «Творчі роботи учня»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Розділ «Відгуки і побажання»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1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3336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42217"/>
                </a:solidFill>
                <a:latin typeface="Calibri"/>
              </a:rPr>
              <a:t>Для чого ми здійснюємо оцінювання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7" name="Picture 1" descr=""/>
          <p:cNvPicPr/>
          <p:nvPr/>
        </p:nvPicPr>
        <p:blipFill>
          <a:blip r:embed="rId1"/>
          <a:stretch/>
        </p:blipFill>
        <p:spPr>
          <a:xfrm>
            <a:off x="6702480" y="4268880"/>
            <a:ext cx="1896840" cy="21873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Визначення сильних сторін дитини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Розуміння змісту і методів навчання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Cambria"/>
              </a:rPr>
              <a:t>Сприяння успішності дитини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Cambria"/>
              </a:rPr>
              <a:t>Розвиток саморефлексії у дітей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Cambria"/>
              </a:rPr>
              <a:t>Визначення дітей, яким потрібно більше підтримки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Краще розуміння батьками,</a:t>
            </a:r>
            <a:r>
              <a:rPr b="0" lang="en-US" sz="2800" spc="-1" strike="noStrike">
                <a:solidFill>
                  <a:srgbClr val="002060"/>
                </a:solidFill>
                <a:latin typeface="Perpetua"/>
              </a:rPr>
              <a:t>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 адміністрацією школи, </a:t>
            </a:r>
            <a:r>
              <a:rPr b="0" lang="en-US" sz="2800" spc="-1" strike="noStrike">
                <a:solidFill>
                  <a:srgbClr val="002060"/>
                </a:solidFill>
                <a:latin typeface="Perpetua"/>
              </a:rPr>
              <a:t>   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Cambria"/>
              </a:rPr>
              <a:t>прогресу дитини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9" name="Picture 2" descr="cid:image001.png@01D2F0F8.F09A5ED0"/>
          <p:cNvPicPr/>
          <p:nvPr/>
        </p:nvPicPr>
        <p:blipFill>
          <a:blip r:embed="rId2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Оцінювання</a:t>
            </a: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 – це процес збору даних з метою прийняття рішень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Оцінювання</a:t>
            </a: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 – це система пов’язаних між собою рішень і дій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Спочатку ми маємо визначитися, 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що </a:t>
            </a: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вимірювати</a:t>
            </a:r>
            <a:r>
              <a:rPr b="0" lang="uk-UA" sz="3200" spc="-1" strike="noStrike">
                <a:solidFill>
                  <a:srgbClr val="002060"/>
                </a:solidFill>
                <a:latin typeface="Cambria"/>
              </a:rPr>
              <a:t> (оцінювати)</a:t>
            </a: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, лише потім – </a:t>
            </a: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як</a:t>
            </a: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 вимірювати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Perpetua"/>
              </a:rPr>
              <a:t>Snow, 2011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17520" y="274320"/>
            <a:ext cx="6568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42217"/>
                </a:solidFill>
                <a:latin typeface="Calibri"/>
              </a:rPr>
              <a:t>Для чого ми здійснюємо оцінювання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3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Cambria"/>
              </a:rPr>
              <a:t>Справжнє оцінювання відображає дійсний навчальний досвід </a:t>
            </a:r>
            <a:r>
              <a:rPr b="0" lang="uk-UA" sz="3200" spc="-1" strike="noStrike">
                <a:solidFill>
                  <a:srgbClr val="003399"/>
                </a:solidFill>
                <a:latin typeface="Cambria"/>
              </a:rPr>
              <a:t>дитини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Cambria"/>
              </a:rPr>
              <a:t>Оцінювання може і повинно бути джерелом пропозицій до розвитку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DDD2-2FA3-480F-9B4C-79702704BC4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Цикл оцінювання (за принципом реагування): 5 компонентів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51" name="Content Placeholder 4" descr=""/>
          <p:cNvPicPr/>
          <p:nvPr/>
        </p:nvPicPr>
        <p:blipFill>
          <a:blip r:embed="rId1"/>
          <a:stretch/>
        </p:blipFill>
        <p:spPr>
          <a:xfrm>
            <a:off x="907920" y="1438200"/>
            <a:ext cx="7785360" cy="4591080"/>
          </a:xfrm>
          <a:prstGeom prst="rect">
            <a:avLst/>
          </a:prstGeom>
          <a:ln w="0">
            <a:noFill/>
          </a:ln>
        </p:spPr>
      </p:pic>
      <p:sp>
        <p:nvSpPr>
          <p:cNvPr id="252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B529-7804-4B72-9709-6F66BE8E5B0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cid:image001.png@01D2F0F8.F09A5ED0"/>
          <p:cNvPicPr/>
          <p:nvPr/>
        </p:nvPicPr>
        <p:blipFill>
          <a:blip r:embed="rId2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03120" y="274320"/>
            <a:ext cx="65833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42217"/>
                </a:solidFill>
                <a:latin typeface="Calibri"/>
              </a:rPr>
              <a:t>Збір інформації: методи (способи) оцінювання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040" y="1447920"/>
            <a:ext cx="591012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2060"/>
                </a:solidFill>
                <a:uFillTx/>
                <a:latin typeface="Cambria"/>
              </a:rPr>
              <a:t>Поточне оцінювання</a:t>
            </a:r>
            <a:r>
              <a:rPr b="1" lang="en-US" sz="2600" spc="-1" strike="noStrike" u="sng">
                <a:solidFill>
                  <a:srgbClr val="002060"/>
                </a:solidFill>
                <a:uFillTx/>
                <a:latin typeface="Perpetua"/>
              </a:rPr>
              <a:t>/</a:t>
            </a:r>
            <a:r>
              <a:rPr b="1" lang="uk-UA" sz="2600" spc="-1" strike="noStrike" u="sng">
                <a:solidFill>
                  <a:srgbClr val="002060"/>
                </a:solidFill>
                <a:uFillTx/>
                <a:latin typeface="Cambria"/>
              </a:rPr>
              <a:t>контроль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2060"/>
                </a:solidFill>
                <a:uFillTx/>
                <a:latin typeface="Cambria"/>
              </a:rPr>
              <a:t>Спостереження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2060"/>
                </a:solidFill>
                <a:uFillTx/>
                <a:latin typeface="Cambria"/>
              </a:rPr>
              <a:t>Портфоліо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mbria"/>
              </a:rPr>
              <a:t>Тестування</a:t>
            </a:r>
            <a:r>
              <a:rPr b="0" lang="en-US" sz="2600" spc="-1" strike="noStrike">
                <a:solidFill>
                  <a:srgbClr val="002060"/>
                </a:solidFill>
                <a:latin typeface="Perpetua"/>
              </a:rPr>
              <a:t>/</a:t>
            </a:r>
            <a:r>
              <a:rPr b="0" lang="uk-UA" sz="2600" spc="-1" strike="noStrike">
                <a:solidFill>
                  <a:srgbClr val="002060"/>
                </a:solidFill>
                <a:latin typeface="Cambria"/>
              </a:rPr>
              <a:t>перевірочні завдання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mbria"/>
              </a:rPr>
              <a:t>Звіти (характеристики) батьків, педагогів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mbria"/>
              </a:rPr>
              <a:t>Скринінг (одномоментна оцінка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mbria"/>
              </a:rPr>
              <a:t>Діагностика (оцінювання фахівцями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7" name="Content Placeholder 3" descr=""/>
          <p:cNvPicPr/>
          <p:nvPr/>
        </p:nvPicPr>
        <p:blipFill>
          <a:blip r:embed="rId1"/>
          <a:stretch/>
        </p:blipFill>
        <p:spPr>
          <a:xfrm>
            <a:off x="6989760" y="5057640"/>
            <a:ext cx="1854360" cy="1484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cid:image001.png@01D2F0F8.F09A5ED0"/>
          <p:cNvPicPr/>
          <p:nvPr/>
        </p:nvPicPr>
        <p:blipFill>
          <a:blip r:embed="rId2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34640" y="274320"/>
            <a:ext cx="6751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b2d1f"/>
                </a:solidFill>
                <a:latin typeface="Calibri"/>
              </a:rPr>
              <a:t>Поточне</a:t>
            </a: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 </a:t>
            </a:r>
            <a:r>
              <a:rPr b="1" lang="uk-UA" sz="4000" spc="-1" strike="noStrike">
                <a:solidFill>
                  <a:srgbClr val="9b2d1f"/>
                </a:solidFill>
                <a:latin typeface="Calibri"/>
              </a:rPr>
              <a:t>оцінювання</a:t>
            </a:r>
            <a:r>
              <a:rPr b="1" lang="en-US" sz="4000" spc="-1" strike="noStrike">
                <a:solidFill>
                  <a:srgbClr val="9b2d1f"/>
                </a:solidFill>
                <a:latin typeface="Franklin Gothic Book"/>
              </a:rPr>
              <a:t>/</a:t>
            </a:r>
            <a:r>
              <a:rPr b="1" lang="uk-UA" sz="4000" spc="-1" strike="noStrike">
                <a:solidFill>
                  <a:srgbClr val="9b2d1f"/>
                </a:solidFill>
                <a:latin typeface="Calibri"/>
              </a:rPr>
              <a:t>контроль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060"/>
                </a:solidFill>
                <a:latin typeface="Cambria"/>
              </a:rPr>
              <a:t>Визначення рівня розуміння і засвоєння учнями змісту матеріалу, зв’язків між ними навчальними дисциплінами, засвоєним змістом попередніх уроків, закріплення знань, умінь і навичок, їх актуалізації перед вивченням нового матеріалу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2060"/>
                </a:solidFill>
                <a:latin typeface="Cambria"/>
              </a:rPr>
              <a:t>Безбальне оцінювання</a:t>
            </a:r>
            <a:r>
              <a:rPr b="0" lang="uk-UA" sz="2600" spc="-1" strike="noStrike">
                <a:solidFill>
                  <a:srgbClr val="002060"/>
                </a:solidFill>
                <a:latin typeface="Cambria"/>
              </a:rPr>
              <a:t>: 1-</a:t>
            </a:r>
            <a:r>
              <a:rPr b="0" lang="en-US" sz="2600" spc="-1" strike="noStrike">
                <a:solidFill>
                  <a:srgbClr val="002060"/>
                </a:solidFill>
                <a:latin typeface="Perpetua"/>
              </a:rPr>
              <a:t>2</a:t>
            </a:r>
            <a:r>
              <a:rPr b="0" lang="uk-UA" sz="2600" spc="-1" strike="noStrike">
                <a:solidFill>
                  <a:srgbClr val="002060"/>
                </a:solidFill>
                <a:latin typeface="Cambria"/>
              </a:rPr>
              <a:t>ий клас (усі предмети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E0D9-122C-4754-8A41-98EEC734FE9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651040" y="274320"/>
            <a:ext cx="6035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Мозковий штурм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38080" y="1463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ортфо</a:t>
            </a:r>
            <a:r>
              <a:rPr b="0" lang="uk-UA" sz="3600" spc="-1" strike="noStrike">
                <a:solidFill>
                  <a:srgbClr val="000000"/>
                </a:solidFill>
                <a:latin typeface="Cambria"/>
              </a:rPr>
              <a:t>ліо – це…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 педагогів з питань впровадження проекту Державного стандарту початкової загальної освіти                   / липень 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3:19:33Z</dcterms:created>
  <dc:creator>Julie Tollefson</dc:creator>
  <dc:description/>
  <dc:language>en-US</dc:language>
  <cp:lastModifiedBy>Admin</cp:lastModifiedBy>
  <cp:lastPrinted>2015-10-04T07:23:35Z</cp:lastPrinted>
  <dcterms:modified xsi:type="dcterms:W3CDTF">2017-07-09T06:40:36Z</dcterms:modified>
  <cp:revision>605</cp:revision>
  <dc:subject/>
  <dc:title>PowerPoint Presentation</dc:title>
</cp:coreProperties>
</file>