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86E-4AE5-4B42-B1E6-7864B355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776-2B49-4479-AB04-E1B10C45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AE9-A6E6-466D-ADE6-ED467AB7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62D-F5BC-43F7-9D26-408DE3C2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E124-D4C5-459F-809A-7E8E6643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60FF-996A-416B-ADB5-B469561A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5BAC-1E09-4F0B-997B-484C2436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BBDF-4171-4A3E-894A-570BD261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1D90-0703-4B36-9110-F6DAC41B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4EE6-3AA9-4C8C-B4FE-EFBB70FA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2A5D-4826-4E17-B709-FAB59D76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A152-9072-4A71-8BFD-928B3831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F3A4-2C0D-4204-A62F-BEE4AEB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C5DD-3790-477D-A888-D278E84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23ED-7757-42D6-BC24-E31FBD14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A437-2B15-426D-A6B7-A8431CD0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5D9A-F84A-4DF3-860B-6F276D5A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20C96-E11C-4BC6-92CB-D1BBCE64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E0C37-3693-4781-9666-06AF11A0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B4326-BC50-4C02-81CC-916DE65D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E450B-3836-4B4B-8C84-12AC679A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02E92-9FA9-45AA-B568-0301AB72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3C9-1EE0-4ABD-AC4B-820E0595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55A96-AC56-47CB-9EAD-4A7ADF1A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79A6F-7570-42CC-A8B8-8D66D3B9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0E160-64F8-437D-B013-C9AB340E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33859-ABEA-459F-B583-7B0AC5F0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41D28-7A1E-4E01-9370-800A9E23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F9E12-3DC3-4361-B2A9-090E5168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6D911-067A-4069-86DC-B43DD08D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6B37-323E-46C4-8965-BC8D605E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C8FD-4FAB-40AB-BC5C-AEFED192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48798-CB32-4EA7-BE3E-9E1E7180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FE1-6705-445E-AD33-FD5042F2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195F-C96A-48C9-946A-EBFADD33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0DAB2-ACC4-4735-B9CF-9C71C063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7BF5-95E1-48CF-AA2D-A72F15EF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EF6A-00AB-4FA2-A90B-0A219B51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15CD-DFC6-410C-A320-169B546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00D9-6000-415A-BD40-346F92FD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2618-D4C6-4449-88BE-32F8F297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90F5-01E5-41B6-A36C-A46C114B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74981-7855-458A-9E8C-F27C0014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DEF-8510-4120-BEBC-FDAC815F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A46-910D-4EF5-80EB-8AF904B9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921-5AA5-4603-9C1D-C9578D40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17A-D01D-49FA-B8B9-68E089B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7CA-3E91-4897-A445-7F6191FC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CC5B-5B2E-4C1B-BBD9-CF8F0487B243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2B3F-6A9D-440F-B737-91621D52BF05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F4E4-616E-47C1-9F94-95A3D2760E21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5245-C2B7-4476-B611-98D9C792E13E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58920" y="2401920"/>
            <a:ext cx="5856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5400" spc="-1" strike="noStrike">
                <a:solidFill>
                  <a:srgbClr val="ffffff"/>
                </a:solidFill>
                <a:latin typeface="Trebuchet MS"/>
              </a:rPr>
              <a:t>Ранкові зустрічі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Нижний колонтитул 5"/>
          <p:cNvSpPr/>
          <p:nvPr/>
        </p:nvSpPr>
        <p:spPr>
          <a:xfrm>
            <a:off x="1258920" y="4076640"/>
            <a:ext cx="73026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РЕНІ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Arial"/>
              </a:rPr>
              <a:t>для педагогів пілотних шкі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з питань впровадження проек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ержавного стандарту початкової загальної освіти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пень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8" name="Содержимое 3" descr="DSCN3441.JPG"/>
          <p:cNvPicPr/>
          <p:nvPr/>
        </p:nvPicPr>
        <p:blipFill>
          <a:blip r:embed="rId1"/>
          <a:stretch/>
        </p:blipFill>
        <p:spPr>
          <a:xfrm>
            <a:off x="142920" y="500040"/>
            <a:ext cx="84297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вітанн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рості віт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ривітання і відповідь (додавання жестів, нових слів, зміна послідовності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икористання карток з імена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ідрекомендувати сусід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Таємні код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Ігри-привітання (передача предмета, павутина, алфавітні, математичні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Содержимое 3" descr="DSCN3351.JPG"/>
          <p:cNvPicPr/>
          <p:nvPr/>
        </p:nvPicPr>
        <p:blipFill>
          <a:blip r:embed="rId1"/>
          <a:stretch/>
        </p:blipFill>
        <p:spPr>
          <a:xfrm>
            <a:off x="571680" y="642960"/>
            <a:ext cx="77864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а 2. Групове заняття</a:t>
            </a:r>
            <a:r>
              <a:rPr b="1" lang="uk-UA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191628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Загадкова скринь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Georgia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Скриньку не можна відкрива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Її можна тряс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Кожен може задати тільки одне закрите запит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Якщо є версії, можна повідомити «Це….?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Ігри, які використовуються під час проведення ранкових зустрічей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0040" y="228564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Що у нас спільног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Коло підтрим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Шарад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Знайди ліде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Зіпсований телефо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Загадування числ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Georgia"/>
              </a:rPr>
              <a:t>Доторкнися до …..та інші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6286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а 3 «Щоденні новини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78100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Робота з календар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5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денні новин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28760" y="1928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Особливе віт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Повідомлення або інформація про поточну тему навчальної програми або тему обговоре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Пояснення щодо плану роботи на ден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Інформація про конкретні види роботи або обов’язк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Особливе прохання або завдання, що потребує викона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Спеціальні оголошення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нкові повідомленн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Доброго ранку, 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ьогодні________(четвер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ьогодні_____(6 липня 2017 року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огода _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Дитина тижня_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ьогодні ми будемо (нас чекає)________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З днем народження,___________!!!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s://scontent-frt3-1.xx.fbcdn.net/v/t34.0-12/15439819_1244170485651004_8787021269033608881_n.jpg?oh=78b682f93a3482f75536c8a1fb70bcf0&amp;oe=584C598A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D:\мои документы\інститут\Кроз_за_кроком\фото\CAM00685.jpg"/>
          <p:cNvPicPr/>
          <p:nvPr/>
        </p:nvPicPr>
        <p:blipFill>
          <a:blip r:embed="rId1"/>
          <a:stretch/>
        </p:blipFill>
        <p:spPr>
          <a:xfrm>
            <a:off x="642960" y="48276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24360" y="713880"/>
            <a:ext cx="48052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лі: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28760" y="1285920"/>
            <a:ext cx="8229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Ознайомитися зі складовими ранкових зустрічей: привітання, групові заняття, щоденні новини, обмін інформацією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творювати сприятливі умови для формування учнівського колективу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прияти відчуттю причетності кожної дитини до учнівського колектив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икористовувати моделі ефективного спілкування з дітьм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денні новин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8360" y="1856880"/>
            <a:ext cx="82296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візуально і фізично доступні для всіх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сприяють розвитку навичок читання і дають змогу постійно здійснювати адаптації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чіткі, прості, стислі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розбірливо та охайно написані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враховують мовленнєві навички, що відповідають вікові діт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враховують вміння читати і писати, що відповідають вікові діт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мають сталий форма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денні новин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999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Доброго ранку!  Я рада, що ви ту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Сьогодні </a:t>
            </a: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вівторок, 27 січн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Дитина дня </a:t>
            </a: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– Окса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Учні, ім’я яких починається з літери </a:t>
            </a: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М</a:t>
            </a: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, будуть брати участь в обміні інформаціє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Після обіду ми йдемо на шкільну вистав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Запишіться нижче на крісло автор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  </a:t>
            </a: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З днем народження, Сергійко!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денні новин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одаткові цілі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0040" y="1714680"/>
            <a:ext cx="8429760" cy="44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Доброго ранку, математики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ьогодні - 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вівторок, 7 квітня 2017 рок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Дитина тижня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 - Юл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Ми пробіжимо сьогодні на вулиці 4 ко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Позавчора Юля пробігла 4 кола за 5 хв. і 20 се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Вчора вона пробігла 4 кола за 5 хв. 17 се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Який її найкращий час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Яка різниця між цими двома величинам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Georgia"/>
              </a:rPr>
              <a:t>Інші запитання…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6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оденні новини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одаткові цілі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928520"/>
            <a:ext cx="842976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Доброго ранку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, мислителі другого класу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ьогодні – 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вівторок, 10 квітня 2017 рок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ьогодні 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ми будемо обмінюватися своїми думками щодо змін у класі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а вас чекає цікаве завдання з математи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апишіть на листочку свій улюблений десер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У нас буде особливе свято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0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3" name="Picture 2" descr="C:\Documents and Settings\Admin\Рабочий стол\РЗ\DSC06871.jpg"/>
          <p:cNvPicPr/>
          <p:nvPr/>
        </p:nvPicPr>
        <p:blipFill>
          <a:blip r:embed="rId1"/>
          <a:stretch/>
        </p:blipFill>
        <p:spPr>
          <a:xfrm>
            <a:off x="539640" y="692280"/>
            <a:ext cx="4183200" cy="5578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C:\Documents and Settings\Admin\Рабочий стол\РЗ\DSC06894.jpg"/>
          <p:cNvPicPr/>
          <p:nvPr/>
        </p:nvPicPr>
        <p:blipFill>
          <a:blip r:embed="rId2"/>
          <a:stretch/>
        </p:blipFill>
        <p:spPr>
          <a:xfrm>
            <a:off x="4984920" y="907920"/>
            <a:ext cx="3997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4920" y="52290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rebuchet MS"/>
              </a:rPr>
              <a:t>Якщо немає дошки, використовуємо стіну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6" name="Picture 2" descr="C:\Documents and Settings\Admin\Рабочий стол\РЗ\DSC06981.JPG"/>
          <p:cNvPicPr/>
          <p:nvPr/>
        </p:nvPicPr>
        <p:blipFill>
          <a:blip r:embed="rId1"/>
          <a:stretch/>
        </p:blipFill>
        <p:spPr>
          <a:xfrm>
            <a:off x="1258920" y="476280"/>
            <a:ext cx="66834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а 4 «Обмін інформацією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Крісло авт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мін інформацією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99800"/>
            <a:ext cx="83296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Зосередьте увагу на особі, яка  ділиться інформацією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Уважно слухайте повідомлення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З повагою ставтеся до нових іде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Формулюйте запитання і коментарі, що демонструють справжню зацікавленість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Демонструйте повагу до особи, яка ділиться інформацією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Уважно слухайте інші запитання і коментарі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0040" y="1052280"/>
            <a:ext cx="8229600" cy="80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леспрямований обмін інформацією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Класна робота та обов’яз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творення/обговорення існуючих правил клас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ирішення конфліктів і складних ситуаці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ивчення нових матеріалів, ігор, обладнанн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Розробка планів груп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1125000"/>
            <a:ext cx="822960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леспрямований обмін інформацією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0040" y="214272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Що ви відчуваєте стосовно__________________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Яке досягнення викликає у вас відчуття найбільшої гордості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Назвіть щось одне, що ви любите робити, коли ви не у школі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Якби ви могли змінити щось, то що саме і чому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Що ви можете робити зараз, чого ви не могли робити на початку навчального року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Розкажіть нам про той час, коли ви були сміливи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92360" y="476280"/>
            <a:ext cx="50212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Содержимое 3" descr="P4141536.JPG"/>
          <p:cNvPicPr/>
          <p:nvPr/>
        </p:nvPicPr>
        <p:blipFill>
          <a:blip r:embed="rId1"/>
          <a:stretch/>
        </p:blipFill>
        <p:spPr>
          <a:xfrm>
            <a:off x="1643040" y="1357200"/>
            <a:ext cx="5765760" cy="4324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179280" y="549360"/>
            <a:ext cx="14400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ВОРЕННЯ ПРАВИЛ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У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У класі орієнтованому на дитину, діти самостійно керують власною поведінкою і приймають правильні рішення під керівництвом педагога. Педагоги сприяють розвитку самоконтролю, дозволяючи дітям встановлювати основні принципи поведінки у класі через запровадження правил клас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5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ВОРЕННЯ ПРАВИЛ КЛАСУ</a:t>
            </a:r>
            <a:br>
              <a:rPr sz="28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Georgia"/>
              </a:rPr>
              <a:t>Правила класу </a:t>
            </a: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– це позитивні висловлювання, що окреслюють принципи поведінки у класі. Вони сприяють вирішенню етичних проблем, що можуть виникати у навчальному закладі. Діти, дотримуючись принципів, які вони розробляють самі для класу, демонструють відповідальність і приналежні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0" y="1125000"/>
            <a:ext cx="417672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равила, які називали діти і записав педагог (на початку навчального року). Наступним кроком  будуть сформовані загальні правила класу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2" name="Picture 2" descr="C:\Documents and Settings\Admin\Рабочий стол\РЗ\DSC07065.jpg"/>
          <p:cNvPicPr/>
          <p:nvPr/>
        </p:nvPicPr>
        <p:blipFill>
          <a:blip r:embed="rId1"/>
          <a:stretch/>
        </p:blipFill>
        <p:spPr>
          <a:xfrm>
            <a:off x="324000" y="1125360"/>
            <a:ext cx="4103640" cy="552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cid:image001.png@01D2F0F8.F09A5ED0"/>
          <p:cNvPicPr/>
          <p:nvPr/>
        </p:nvPicPr>
        <p:blipFill>
          <a:blip r:embed="rId2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5" name="Содержимое 3" descr="CAM00688.jpg"/>
          <p:cNvPicPr/>
          <p:nvPr/>
        </p:nvPicPr>
        <p:blipFill>
          <a:blip r:embed="rId1"/>
          <a:stretch/>
        </p:blipFill>
        <p:spPr>
          <a:xfrm>
            <a:off x="539640" y="620640"/>
            <a:ext cx="784404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Содержимое 8" descr="CAM00703.jpg"/>
          <p:cNvPicPr/>
          <p:nvPr/>
        </p:nvPicPr>
        <p:blipFill>
          <a:blip r:embed="rId1"/>
          <a:stretch/>
        </p:blipFill>
        <p:spPr>
          <a:xfrm>
            <a:off x="642960" y="571680"/>
            <a:ext cx="804852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чення ранкової зустрічі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творення спільно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Розвиток навичок спілкув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Розвиток соціальних навичо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творення позитивного настрою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Содержимое 3" descr="DSCN3765.JPG"/>
          <p:cNvPicPr/>
          <p:nvPr/>
        </p:nvPicPr>
        <p:blipFill>
          <a:blip r:embed="rId1"/>
          <a:stretch/>
        </p:blipFill>
        <p:spPr>
          <a:xfrm>
            <a:off x="357120" y="714240"/>
            <a:ext cx="8143920" cy="58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а 1. «Привітанн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1280" y="23490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рості привіт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Привітання – побаж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Комплімен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Содержимое 2"/>
          <p:cNvSpPr/>
          <p:nvPr/>
        </p:nvSpPr>
        <p:spPr>
          <a:xfrm>
            <a:off x="714240" y="435780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Georgia"/>
              </a:rPr>
              <a:t>Обговоре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Як почували себе під час виконання цієї вправи? Які емоції, почуття виник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Georgia"/>
              </a:rPr>
              <a:t>В чому цінність такої вправ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ілі ранкових зустріче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360" y="2276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2060"/>
                </a:solidFill>
                <a:latin typeface="Georgia"/>
              </a:rPr>
              <a:t>Сформувати єдину спільноту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Стимулювати обмін думками, уважне слухання співрозмовника, залучення та участь у спільній діяльності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Georgia"/>
              </a:rPr>
              <a:t>За допомогою щоденних ритуалів і стандартних заходів сформувати у дітей необхідні навички, щоб стати відповідальним членом громади (класної, шкільної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нкові зустрічі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Georgia"/>
              </a:rPr>
              <a:t>Формують у дітей звичку піклуватися про інших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прияють створенню живої, відкритої і дружньої атмосфери на весь ден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прияють виробленню прави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творюють індивідуальні та колективні можливості для участі у спільній роботі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Переконують дітей у тому, що участь кожного з них у спільній роботі має велике значенн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Сприяють розвитку важливих академічних навичок: слуханню співрозмовника, мовленню, узагальненню отриманої інформації, прийняттю рішень, читанню, письму, правопису та математиці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7640" y="1212840"/>
            <a:ext cx="739800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6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охочення демократичного ставлення і поведінки</a:t>
            </a:r>
            <a:br>
              <a:rPr sz="36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760" y="213336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Активна уча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Критичне мисле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Толерантність і прийнятт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Самостійне мисле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ідкриті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Власна та соціальна відповідальні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2060"/>
                </a:solidFill>
                <a:latin typeface="Georgia"/>
              </a:rPr>
              <a:t>Інклюзі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1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9640" y="1844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Формування ко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4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Привітанн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4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Групове занятт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4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Новини класу (щоденні новин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4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Обмін інформацією / крісло авт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cid:image001.png@01D2F0F8.F09A5ED0"/>
          <p:cNvPicPr/>
          <p:nvPr/>
        </p:nvPicPr>
        <p:blipFill>
          <a:blip r:embed="rId1"/>
          <a:stretch/>
        </p:blipFill>
        <p:spPr>
          <a:xfrm>
            <a:off x="324000" y="563400"/>
            <a:ext cx="1439640" cy="48924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5"/>
          <p:cNvSpPr/>
          <p:nvPr/>
        </p:nvSpPr>
        <p:spPr>
          <a:xfrm>
            <a:off x="684360" y="59500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інг для педагогів з питань впровадження проекту Державного стандарту початкової загальної освіти                   / липень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 Windows</cp:lastModifiedBy>
  <dcterms:modified xsi:type="dcterms:W3CDTF">2017-07-03T14:41:07Z</dcterms:modified>
  <cp:revision>850</cp:revision>
  <dc:subject/>
  <dc:title>Diapositiva 1</dc:title>
</cp:coreProperties>
</file>