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C516-E9EB-43CB-A548-923179E6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3C56-FF56-4E25-8FF3-87FFBAAA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E974-9965-4303-A9B6-A9C5C194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7C41-5BA2-4C4A-873E-3EE2B2B7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E464-261E-4826-BD1D-F5F2B9E9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793A-E6E8-4269-8F7B-A4829EC9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3365-74E1-477E-AFCA-58608D41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B2F0-3143-4BEB-82E5-08653FF0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326A-CCFF-4367-B6F6-E6E9B9F3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CD18-2312-4310-B3B1-8561395B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A5E8-138F-4E26-AC38-7D93983F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271F-73C4-4015-B384-9A9B43DC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7E49-20D2-4D76-99E0-D214A5B0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7E39-C8A4-4030-AA8C-F43CDC0A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A89D-DC4D-4BBA-82AD-839635D0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7EC1-04BC-4539-8CFC-279EEE28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ADF7-3212-41CF-B94D-C034636FD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40D005-5433-48FD-8ABA-B81D0373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B71C3F-9ED5-44BA-A380-149169D2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A98FEB-8D45-4C48-8A04-D4537708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9B8268-7D5A-47D3-9279-9A134102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32416F-6213-4FF9-BBD2-3F7CE150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59CF-8908-40EB-B847-D4029D8F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3900C-5CC9-487F-B389-D94BE947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0C2F28-E9F2-4A9C-AD04-DE792A3C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BB21FB-C0E6-4BBF-9272-4DDF60F4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09A93C-A3D2-475E-8B4F-A6D29C9A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D87A74-B2EF-477A-884E-FDF56E7D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903784-FE49-463C-8DA7-9601C24AD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BAEC15-A7EA-4EFD-A6D5-8563828A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CCA12-07EC-49E7-B732-1122FA2A4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FE094-7518-4939-A445-F0CA6C2C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7A272-3A1B-4397-ADF6-7B1E527C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256A-7504-469B-A3E9-EC64FFCB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2D995-1A52-4ADE-963A-8FE1C90B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94AA8-ED45-4A6E-8C22-C4764E09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7312E-1D50-4B92-867B-E296AC13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52DFC-8634-41AF-8F6C-9360EEE7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60B5A-A54D-4723-81AC-7E9AF4E6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D4228-9C51-410F-982C-A6461797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A140A-753B-42F1-BD04-6975A02E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39DCF-C1A4-45B3-AAA3-54C4D7A4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FF84B-68D0-4272-AE8F-AB3B9DAC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A1AA-7696-4852-BB5E-82892267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CF66-7D16-4F19-8A6D-7AA57D16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26C8-B2ED-4CC1-AB3F-9EEA6217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A3D9-EAF6-4BE7-827A-431C19A6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B9BF-BCB8-4AC5-8279-DA7D290B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5915-4542-439B-9AA0-D2C5E0D262B3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BDB1-9824-4F7D-9EDB-0A5EE2D47459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A2B6-6E24-4FFE-A333-94A933ADD7BE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732E-E2C3-405E-855A-278BC35B18ED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58920" y="2401920"/>
            <a:ext cx="585612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uk-UA" sz="5400" spc="-1" strike="noStrike">
                <a:solidFill>
                  <a:srgbClr val="ffffff"/>
                </a:solidFill>
                <a:latin typeface="Trebuchet MS"/>
              </a:rPr>
              <a:t>Ранкові зустрічі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Нижний колонтитул 5"/>
          <p:cNvSpPr/>
          <p:nvPr/>
        </p:nvSpPr>
        <p:spPr>
          <a:xfrm>
            <a:off x="1258920" y="4076640"/>
            <a:ext cx="73026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ТРЕНІН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Arial"/>
              </a:rPr>
              <a:t>для педагогів пілотних шкі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з питань впровадження проек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ержавного стандарту початкової загальної освіти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ипень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627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8" name="Содержимое 3" descr="DSCN3441.JPG"/>
          <p:cNvPicPr/>
          <p:nvPr/>
        </p:nvPicPr>
        <p:blipFill>
          <a:blip r:embed="rId1"/>
          <a:stretch/>
        </p:blipFill>
        <p:spPr>
          <a:xfrm>
            <a:off x="142920" y="500040"/>
            <a:ext cx="842976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004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вітанн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Прості вітанн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Привітання і відповідь (додавання жестів, нових слів, зміна послідовності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Використання карток з іменам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Відрекомендувати сусід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Таємні код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Ігри-привітання (передача предмета, павутина, алфавітні, математичні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1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педагогів з питань впровадження проекту Державного стандарту початкової загальної освіти                   / липень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4" name="Содержимое 3" descr="DSCN3351.JPG"/>
          <p:cNvPicPr/>
          <p:nvPr/>
        </p:nvPicPr>
        <p:blipFill>
          <a:blip r:embed="rId1"/>
          <a:stretch/>
        </p:blipFill>
        <p:spPr>
          <a:xfrm>
            <a:off x="571680" y="642960"/>
            <a:ext cx="778644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права 2. Групове заняття</a:t>
            </a:r>
            <a:r>
              <a:rPr b="1" lang="uk-UA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68360" y="1916280"/>
            <a:ext cx="82296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Georgia"/>
              </a:rPr>
              <a:t>Загадкова скринь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2060"/>
                </a:solidFill>
                <a:uFillTx/>
                <a:latin typeface="Georgia"/>
              </a:rPr>
              <a:t>Правила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Georgia"/>
              </a:rPr>
              <a:t>Скриньку не можна відкриват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Georgia"/>
              </a:rPr>
              <a:t>Її можна тряст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Georgia"/>
              </a:rPr>
              <a:t>Кожен може задати тільки одне закрите запитанн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Georgia"/>
              </a:rPr>
              <a:t>Якщо є версії, можна повідомити «Це….?»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7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педагогів з питань впровадження проекту Державного стандарту початкової загальної освіти                   / липень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Ігри, які використовуються під час проведення ранкових зустрічей</a:t>
            </a:r>
            <a:endParaRPr b="0" lang="en-US" sz="2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00040" y="228564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Що у нас спільног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Коло підтримк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Georgia"/>
              </a:rPr>
              <a:t>Шарад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Georgia"/>
              </a:rPr>
              <a:t>Знайди лідер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Georgia"/>
              </a:rPr>
              <a:t>Зіпсований телефон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Georgia"/>
              </a:rPr>
              <a:t>Загадування числа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Georgia"/>
              </a:rPr>
              <a:t>Доторкнися до …..та інші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1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педагогів з питань впровадження проекту Державного стандарту початкової загальної освіти                   / липень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16286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права 3 «Щоденні новини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2781000"/>
            <a:ext cx="8229600" cy="37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Робота з календаре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5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педагогів з питань впровадження проекту Державного стандарту початкової загальної освіти                   / липень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004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Щоденні новин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28760" y="19288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2060"/>
                </a:solidFill>
                <a:latin typeface="Georgia"/>
              </a:rPr>
              <a:t>Особливе вітанн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2060"/>
                </a:solidFill>
                <a:latin typeface="Georgia"/>
              </a:rPr>
              <a:t>Повідомлення або інформація про поточну тему навчальної програми або тему обговоренн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2060"/>
                </a:solidFill>
                <a:latin typeface="Georgia"/>
              </a:rPr>
              <a:t>Пояснення щодо плану роботи на день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2060"/>
                </a:solidFill>
                <a:latin typeface="Georgia"/>
              </a:rPr>
              <a:t>Інформація про конкретні види роботи або обов’язки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2060"/>
                </a:solidFill>
                <a:latin typeface="Georgia"/>
              </a:rPr>
              <a:t>Особливе прохання або завдання, що потребує виконанн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2060"/>
                </a:solidFill>
                <a:latin typeface="Georgia"/>
              </a:rPr>
              <a:t>Спеціальні оголошення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9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педагогів з питань впровадження проекту Державного стандарту початкової загальної освіти                   / липень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нкові повідомленн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Доброго ранку, _______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Сьогодні________(четвер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Сьогодні_____(6 липня 2017 року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Погода __________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Дитина тижня_________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Сьогодні ми будемо (нас чекає)________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З днем народження,___________!!!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3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педагогів з питань впровадження проекту Державного стандарту початкової загальної освіти                   / липень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https://scontent-frt3-1.xx.fbcdn.net/v/t34.0-12/15439819_1244170485651004_8787021269033608881_n.jpg?oh=78b682f93a3482f75536c8a1fb70bcf0&amp;oe=584C598A"/>
          <p:cNvPicPr/>
          <p:nvPr/>
        </p:nvPicPr>
        <p:blipFill>
          <a:blip r:embed="rId1"/>
          <a:stretch/>
        </p:blipFill>
        <p:spPr>
          <a:xfrm>
            <a:off x="0" y="64296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D:\мои документы\інститут\Кроз_за_кроком\фото\CAM00685.jpg"/>
          <p:cNvPicPr/>
          <p:nvPr/>
        </p:nvPicPr>
        <p:blipFill>
          <a:blip r:embed="rId1"/>
          <a:stretch/>
        </p:blipFill>
        <p:spPr>
          <a:xfrm>
            <a:off x="642960" y="482760"/>
            <a:ext cx="799308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24360" y="713880"/>
            <a:ext cx="48052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ілі: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28760" y="1285920"/>
            <a:ext cx="8229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Ознайомитися зі складовими ранкових зустрічей: привітання, групові заняття, щоденні новини, обмін інформацією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Створювати сприятливі умови для формування учнівського колективу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Сприяти відчуттю причетності кожної дитини до учнівського колективу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Використовувати моделі ефективного спілкування з дітьм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9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педагогів з питань впровадження проекту Державного стандарту початкової загальної освіти                   / липень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Щоденні новин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68360" y="1856880"/>
            <a:ext cx="822960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візуально і фізично доступні для всіх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сприяють розвитку навичок читання і дають змогу постійно здійснювати адаптації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чіткі, прості, стислі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розбірливо та охайно написані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враховують мовленнєві навички, що відповідають вікові дітей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враховують вміння читати і писати, що відповідають вікові дітей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мають сталий формат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9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педагогів з питань впровадження проекту Державного стандарту початкової загальної освіти                   / липень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0040" y="7855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Щоденні новин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00040" y="1999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Georgia"/>
              </a:rPr>
              <a:t>Доброго ранку!  Я рада, що ви тут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Georgia"/>
              </a:rPr>
              <a:t>Сьогодні </a:t>
            </a: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вівторок, 27 січн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Georgia"/>
              </a:rPr>
              <a:t>Дитина дня </a:t>
            </a: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– Оксанк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Учні, ім’я яких починається з літери </a:t>
            </a:r>
            <a:r>
              <a:rPr b="1" lang="uk-UA" sz="2400" spc="-1" strike="noStrike">
                <a:solidFill>
                  <a:srgbClr val="002060"/>
                </a:solidFill>
                <a:latin typeface="Georgia"/>
              </a:rPr>
              <a:t>М</a:t>
            </a: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, будуть брати участь в обміні інформацією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Після обіду ми йдемо на шкільну виставу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Запишіться нижче на крісло автор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      </a:t>
            </a: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      </a:t>
            </a: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  </a:t>
            </a:r>
            <a:r>
              <a:rPr b="0" lang="uk-UA" sz="2600" spc="-1" strike="noStrike">
                <a:solidFill>
                  <a:srgbClr val="002060"/>
                </a:solidFill>
                <a:latin typeface="Georgia"/>
              </a:rPr>
              <a:t>З днем народження, Сергійко!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3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Щоденні новини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додаткові цілі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00040" y="1714680"/>
            <a:ext cx="8429760" cy="44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Доброго ранку, математики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Сьогодні - </a:t>
            </a: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вівторок, 7 квітня 2017 року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Дитина тижня</a:t>
            </a: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 - Юл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Ми пробіжимо сьогодні на вулиці 4 кол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Позавчора Юля пробігла 4 кола за 5 хв. і 20 сек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Вчора вона пробігла 4 кола за 5 хв. 17 сек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Який її найкращий час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Яка різниця між цими двома величинами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Georgia"/>
              </a:rPr>
              <a:t>Інші запитання…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6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87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педагогів з питань впровадження проекту Державного стандарту початкової загальної освіти                   / липень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Щоденні новини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додаткові цілі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00040" y="1928520"/>
            <a:ext cx="8429760" cy="42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Доброго ранку</a:t>
            </a: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, мислителі другого класу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Сьогодні – </a:t>
            </a: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вівторок, 10 квітня 2017 року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Сьогодні </a:t>
            </a: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ми будемо обмінюватися своїми думками щодо змін у класі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На вас чекає цікаве завдання з математик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Напишіть на листочку свій улюблений десерт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У нас буде особливе свято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0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педагогів з питань впровадження проекту Державного стандарту початкової загальної освіти                   / липень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3" name="Picture 2" descr="C:\Documents and Settings\Admin\Рабочий стол\РЗ\DSC06871.jpg"/>
          <p:cNvPicPr/>
          <p:nvPr/>
        </p:nvPicPr>
        <p:blipFill>
          <a:blip r:embed="rId1"/>
          <a:stretch/>
        </p:blipFill>
        <p:spPr>
          <a:xfrm>
            <a:off x="539640" y="692280"/>
            <a:ext cx="4183200" cy="55782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C:\Documents and Settings\Admin\Рабочий стол\РЗ\DSC06894.jpg"/>
          <p:cNvPicPr/>
          <p:nvPr/>
        </p:nvPicPr>
        <p:blipFill>
          <a:blip r:embed="rId2"/>
          <a:stretch/>
        </p:blipFill>
        <p:spPr>
          <a:xfrm>
            <a:off x="4984920" y="907920"/>
            <a:ext cx="39970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4920" y="522900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rebuchet MS"/>
              </a:rPr>
              <a:t>Якщо немає дошки, використовуємо стіну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6" name="Picture 2" descr="C:\Documents and Settings\Admin\Рабочий стол\РЗ\DSC06981.JPG"/>
          <p:cNvPicPr/>
          <p:nvPr/>
        </p:nvPicPr>
        <p:blipFill>
          <a:blip r:embed="rId1"/>
          <a:stretch/>
        </p:blipFill>
        <p:spPr>
          <a:xfrm>
            <a:off x="1258920" y="476280"/>
            <a:ext cx="66834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8760" y="1341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права 4 «Обмін інформацією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Крісло автор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9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300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педагогів з питань впровадження проекту Державного стандарту початкової загальної освіти                   / липень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мін інформацією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999800"/>
            <a:ext cx="832968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2060"/>
                </a:solidFill>
                <a:latin typeface="Georgia"/>
              </a:rPr>
              <a:t>Зосередьте увагу на особі, яка  ділиться інформацією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2060"/>
                </a:solidFill>
                <a:latin typeface="Georgia"/>
              </a:rPr>
              <a:t>Уважно слухайте повідомленн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2060"/>
                </a:solidFill>
                <a:latin typeface="Georgia"/>
              </a:rPr>
              <a:t>З повагою ставтеся до нових ідей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2060"/>
                </a:solidFill>
                <a:latin typeface="Georgia"/>
              </a:rPr>
              <a:t>Формулюйте запитання і коментарі, що демонструють справжню зацікавленість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2060"/>
                </a:solidFill>
                <a:latin typeface="Georgia"/>
              </a:rPr>
              <a:t>Демонструйте повагу до особи, яка ділиться інформацією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2060"/>
                </a:solidFill>
                <a:latin typeface="Georgia"/>
              </a:rPr>
              <a:t>Уважно слухайте інші запитання і коментарі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3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304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педагогів з питань впровадження проекту Державного стандарту початкової загальної освіти                   / липень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0040" y="1052280"/>
            <a:ext cx="8229600" cy="80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ілеспрямований обмін інформацією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Класна робота та обов’язк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Створення/обговорення існуючих правил класу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Вирішення конфліктів і складних ситуаці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Вивчення нових матеріалів, ігор, обладнанн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Розробка планів груп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7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педагогів з питань впровадження проекту Державного стандарту початкової загальної освіти                   / липень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8760" y="1125000"/>
            <a:ext cx="8229600" cy="66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ілеспрямований обмін інформацією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00040" y="2142720"/>
            <a:ext cx="822960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Що ви відчуваєте стосовно__________________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Яке досягнення викликає у вас відчуття найбільшої гордості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Назвіть щось одне, що ви любите робити, коли ви не у школі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Якби ви могли змінити щось, то що саме і чому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Що ви можете робити зараз, чого ви не могли робити на початку навчального року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Розкажіть нам про той час, коли ви були сміливим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11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312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педагогів з питань впровадження проекту Державного стандарту початкової загальної освіти                   / липень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492360" y="476280"/>
            <a:ext cx="50212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ло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2" name="Содержимое 3" descr="P4141536.JPG"/>
          <p:cNvPicPr/>
          <p:nvPr/>
        </p:nvPicPr>
        <p:blipFill>
          <a:blip r:embed="rId1"/>
          <a:stretch/>
        </p:blipFill>
        <p:spPr>
          <a:xfrm>
            <a:off x="1643040" y="1357200"/>
            <a:ext cx="5765760" cy="4324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cid:image001.png@01D2F0F8.F09A5ED0"/>
          <p:cNvPicPr/>
          <p:nvPr/>
        </p:nvPicPr>
        <p:blipFill>
          <a:blip r:embed="rId2"/>
          <a:stretch/>
        </p:blipFill>
        <p:spPr>
          <a:xfrm>
            <a:off x="179280" y="549360"/>
            <a:ext cx="144000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ВОРЕННЯ ПРАВИЛ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АСУ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У класі орієнтованому на дитину, діти самостійно керують власною поведінкою і приймають правильні рішення під керівництвом педагога. Педагоги сприяють розвитку самоконтролю, дозволяючи дітям встановлювати основні принципи поведінки у класі через запровадження правил класу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15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316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педагогів з питань впровадження проекту Державного стандарту початкової загальної освіти                   / липень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ВОРЕННЯ ПРАВИЛ КЛАСУ</a:t>
            </a:r>
            <a:br>
              <a:rPr sz="2800"/>
            </a:b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Georgia"/>
              </a:rPr>
              <a:t>Правила класу </a:t>
            </a: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– це позитивні висловлювання, що окреслюють принципи поведінки у класі. Вони сприяють вирішенню етичних проблем, що можуть виникати у навчальному закладі. Діти, дотримуючись принципів, які вони розробляють самі для класу, демонструють відповідальність і приналежніст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19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320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педагогів з питань впровадження проекту Державного стандарту початкової загальної освіти                   / липень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0" y="1125000"/>
            <a:ext cx="4176720" cy="45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Правила, які називали діти і записав педагог (на початку навчального року). Наступним кроком  будуть сформовані загальні правила класу.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22" name="Picture 2" descr="C:\Documents and Settings\Admin\Рабочий стол\РЗ\DSC07065.jpg"/>
          <p:cNvPicPr/>
          <p:nvPr/>
        </p:nvPicPr>
        <p:blipFill>
          <a:blip r:embed="rId1"/>
          <a:stretch/>
        </p:blipFill>
        <p:spPr>
          <a:xfrm>
            <a:off x="324000" y="1125360"/>
            <a:ext cx="4103640" cy="55245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cid:image001.png@01D2F0F8.F09A5ED0"/>
          <p:cNvPicPr/>
          <p:nvPr/>
        </p:nvPicPr>
        <p:blipFill>
          <a:blip r:embed="rId2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25" name="Содержимое 3" descr="CAM00688.jpg"/>
          <p:cNvPicPr/>
          <p:nvPr/>
        </p:nvPicPr>
        <p:blipFill>
          <a:blip r:embed="rId1"/>
          <a:stretch/>
        </p:blipFill>
        <p:spPr>
          <a:xfrm>
            <a:off x="539640" y="620640"/>
            <a:ext cx="7844040" cy="58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Содержимое 8" descr="CAM00703.jpg"/>
          <p:cNvPicPr/>
          <p:nvPr/>
        </p:nvPicPr>
        <p:blipFill>
          <a:blip r:embed="rId1"/>
          <a:stretch/>
        </p:blipFill>
        <p:spPr>
          <a:xfrm>
            <a:off x="642960" y="571680"/>
            <a:ext cx="804852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начення ранкової зустрічі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Створення спільнот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Розвиток навичок спілкуванн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Розвиток соціальних навичо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Створення позитивного настрою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9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330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педагогів з питань впровадження проекту Державного стандарту початкової загальної освіти                   / липень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5" name="Содержимое 3" descr="DSCN3765.JPG"/>
          <p:cNvPicPr/>
          <p:nvPr/>
        </p:nvPicPr>
        <p:blipFill>
          <a:blip r:embed="rId1"/>
          <a:stretch/>
        </p:blipFill>
        <p:spPr>
          <a:xfrm>
            <a:off x="357120" y="714240"/>
            <a:ext cx="8143920" cy="58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1280" y="141300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права 1. «Привітання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1280" y="234900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Прості привітанн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Привітання – побажанн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Комплімен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Содержимое 2"/>
          <p:cNvSpPr/>
          <p:nvPr/>
        </p:nvSpPr>
        <p:spPr>
          <a:xfrm>
            <a:off x="714240" y="4357800"/>
            <a:ext cx="82296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Обговорен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eorgia"/>
              </a:rPr>
              <a:t>Як почували себе під час виконання цієї вправи? Які емоції, почуття виника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eorgia"/>
              </a:rPr>
              <a:t>В чому цінність такої вправ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педагогів з питань впровадження проекту Державного стандарту початкової загальної освіти                   / липень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ілі ранкових зустріче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68360" y="2276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2060"/>
                </a:solidFill>
                <a:latin typeface="Georgia"/>
              </a:rPr>
              <a:t>Сформувати єдину спільноту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Georgia"/>
              </a:rPr>
              <a:t>Стимулювати обмін думками, уважне слухання співрозмовника, залучення та участь у спільній діяльності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Georgia"/>
              </a:rPr>
              <a:t>За допомогою щоденних ритуалів і стандартних заходів сформувати у дітей необхідні навички, щоб стати відповідальним членом громади (класної, шкільної)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3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педагогів з питань впровадження проекту Державного стандарту початкової загальної освіти                   / липень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нкові зустрічі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Формують у дітей звичку піклуватися про інших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Сприяють створенню живої, відкритої і дружньої атмосфери на весь ден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Сприяють виробленню прави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Створюють індивідуальні та колективні можливості для участі у спільній роботі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Переконують дітей у тому, що участь кожного з них у спільній роботі має велике значенн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Сприяють розвитку важливих академічних навичок: слуханню співрозмовника, мовленню, узагальненню отриманої інформації, прийняттю рішень, читанню, письму, правопису та математиці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7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педагогів з питань впровадження проекту Державного стандарту початкової загальної освіти                   / липень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47640" y="1212840"/>
            <a:ext cx="7398000" cy="8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охочення демократичного ставлення і поведінки</a:t>
            </a:r>
            <a:br>
              <a:rPr sz="36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28760" y="213336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Активна участ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Критичне мисленн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Толерантність і прийнятт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Самостійне мисленн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Відкритіст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Власна та соціальна відповідальніст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Інклюзі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1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педагогів з питань впровадження проекту Державного стандарту початкової загальної освіти                   / липень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ук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9640" y="1844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Формування кол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4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Привітанн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4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Групове занятт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4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Новини класу (щоденні новини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4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Обмін інформацією / крісло автор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5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педагогів з питань впровадження проекту Державного стандарту початкової загальної освіти                   / липень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Пользователь Windows</cp:lastModifiedBy>
  <dcterms:modified xsi:type="dcterms:W3CDTF">2017-07-03T14:41:07Z</dcterms:modified>
  <cp:revision>850</cp:revision>
  <dc:subject/>
  <dc:title>Diapositiva 1</dc:title>
</cp:coreProperties>
</file>